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8045-D30A-46BB-BC9F-D29997F4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6AAB-A6EB-453A-808D-9A645F09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3B29-94A3-4CFF-B462-D6505ED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893B-0B8A-4713-86B7-CBC6FB01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AA63-C30D-46A6-B2B9-2AA25E29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2F71-38DE-4635-A4F3-63742B5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AB0B-645E-4CD6-9E36-08D9FBB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7A02-BDA6-4C77-91E7-2CE90A9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4FAB-A451-408A-B51F-FC2C9C5C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D11-5B11-4A3D-B3A4-60095B81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D78D-BB3A-4DE3-B296-DA11D1B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408A-437D-42D4-AE06-C4E39A2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F904-1938-4F81-8990-31DBD84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9474-ACEC-40E9-A61B-F001E9F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49EE-86D8-4DFC-9B7B-9E9A13A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8691-784C-4F18-9A3C-25D5FD10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F0C1-16F7-423A-9C54-714F5D23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596B-898E-475E-8ED3-D71F201E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35CF-5630-40A1-B7C6-A76B8875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862A-6981-4760-B2C0-AFFD5FE3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51A5-B890-4A72-A41B-DDF774E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6C13-9872-4036-AEE3-E857C66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F025-2402-4B0B-878C-1D629DB4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C3C6-252C-4E96-93B9-C943D79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F878-8B87-4103-B34A-44C97A14531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C6C7-D282-45F0-8ABF-C1F18BB6D7C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540080"/>
            <a:ext cx="95774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20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664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 Вземи ръцете ми Ти и ме води, през тесния път тук в рай ме заведи! Сам не мога направи нито стъпка,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ако ме не държиш с мощна Си рък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626480"/>
            <a:ext cx="1008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2. О, скрий ме в благодат, чуй ме, мил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пас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 Духа Си Свят окрилян ме всеки час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ал при Твоите нозе има покой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О, Боже, приеми ме, за да съм Твой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акар едва да сещам аз Твойта м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то ходя в пътя на земна н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ръцете ми вземи и ме води, през тесния път във рай ме завед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5:08Z</dcterms:modified>
  <cp:revision>135</cp:revision>
  <dc:subject/>
  <dc:title>Slide 1</dc:title>
</cp:coreProperties>
</file>